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443-76AA-449A-8789-018ADCCA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F45A-F439-4CD5-A282-22798267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AEA6-3A62-4B77-B6E9-63527649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1804-C561-45B1-B126-14109170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11DB-38D7-4668-9D70-3F848F77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A8C3-529C-448B-9877-34805B75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E5B-20D4-4EC4-9A9D-88CC802E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8EE-167E-4F3A-B619-2443A4AC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75AA-A43B-44CF-89BE-ADD00EB7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5050-7A41-4B87-B90F-C20FDEC0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3BFF-8443-4796-B728-15AD4558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E0D6-460F-455C-B8FC-6BC4BBB0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D111-7404-4B61-9FE0-2594738FD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ting Chart for Au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76720" y="5562720"/>
            <a:ext cx="2133360" cy="9903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914400" y="1219320"/>
            <a:ext cx="8380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14400" y="2286000"/>
            <a:ext cx="8380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914400" y="3352680"/>
            <a:ext cx="83808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914400" y="4419720"/>
            <a:ext cx="8380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2438280" y="1219320"/>
            <a:ext cx="83844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438280" y="2286000"/>
            <a:ext cx="83844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438280" y="3352680"/>
            <a:ext cx="83844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362320" y="4419720"/>
            <a:ext cx="8380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962520" y="1219320"/>
            <a:ext cx="8380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962520" y="2286000"/>
            <a:ext cx="8380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62520" y="3352680"/>
            <a:ext cx="83808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4038480" y="4419720"/>
            <a:ext cx="83844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5410080" y="1219320"/>
            <a:ext cx="83844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410080" y="2286000"/>
            <a:ext cx="83844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5410080" y="3352680"/>
            <a:ext cx="83844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410080" y="4419720"/>
            <a:ext cx="83844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6934320" y="1219320"/>
            <a:ext cx="8380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934320" y="2286000"/>
            <a:ext cx="8380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934320" y="3352680"/>
            <a:ext cx="83808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6934320" y="4419720"/>
            <a:ext cx="8380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762120" y="1905120"/>
            <a:ext cx="129528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2209680" y="1905120"/>
            <a:ext cx="12956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3809880" y="1905120"/>
            <a:ext cx="12956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5181480" y="1905120"/>
            <a:ext cx="12956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6629400" y="1905120"/>
            <a:ext cx="129528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685800" y="2971800"/>
            <a:ext cx="129528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2209680" y="2971800"/>
            <a:ext cx="12956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3733920" y="2971800"/>
            <a:ext cx="129528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5181480" y="2971800"/>
            <a:ext cx="12956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6705720" y="2971800"/>
            <a:ext cx="129528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685800" y="4038480"/>
            <a:ext cx="129528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2209680" y="4038480"/>
            <a:ext cx="12956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3809880" y="4038480"/>
            <a:ext cx="12956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5257800" y="4038480"/>
            <a:ext cx="129528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6705720" y="4038480"/>
            <a:ext cx="129528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685800" y="5105520"/>
            <a:ext cx="129528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1"/>
          <p:cNvSpPr/>
          <p:nvPr/>
        </p:nvSpPr>
        <p:spPr>
          <a:xfrm>
            <a:off x="6705720" y="5105520"/>
            <a:ext cx="129528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3733920" y="5105520"/>
            <a:ext cx="129528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2209680" y="5105520"/>
            <a:ext cx="12956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5257800" y="5105520"/>
            <a:ext cx="129528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lowchart: Connector 7"/>
          <p:cNvSpPr/>
          <p:nvPr/>
        </p:nvSpPr>
        <p:spPr>
          <a:xfrm>
            <a:off x="8458200" y="6172200"/>
            <a:ext cx="457200" cy="457200"/>
          </a:xfrm>
          <a:prstGeom prst="flowChartConnector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lowchart: Connector 8"/>
          <p:cNvSpPr/>
          <p:nvPr/>
        </p:nvSpPr>
        <p:spPr>
          <a:xfrm>
            <a:off x="7848720" y="6172200"/>
            <a:ext cx="457200" cy="457200"/>
          </a:xfrm>
          <a:prstGeom prst="flowChartConnector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lowchart: Connector 9"/>
          <p:cNvSpPr/>
          <p:nvPr/>
        </p:nvSpPr>
        <p:spPr>
          <a:xfrm>
            <a:off x="7238880" y="6172200"/>
            <a:ext cx="457200" cy="457200"/>
          </a:xfrm>
          <a:prstGeom prst="flowChartConnector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lowchart: Connector 10"/>
          <p:cNvSpPr/>
          <p:nvPr/>
        </p:nvSpPr>
        <p:spPr>
          <a:xfrm>
            <a:off x="228600" y="6172200"/>
            <a:ext cx="457200" cy="457200"/>
          </a:xfrm>
          <a:prstGeom prst="flowChartConnector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lowchart: Connector 11"/>
          <p:cNvSpPr/>
          <p:nvPr/>
        </p:nvSpPr>
        <p:spPr>
          <a:xfrm>
            <a:off x="838080" y="6172200"/>
            <a:ext cx="457200" cy="457200"/>
          </a:xfrm>
          <a:prstGeom prst="flowChartConnector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lowchart: Connector 12"/>
          <p:cNvSpPr/>
          <p:nvPr/>
        </p:nvSpPr>
        <p:spPr>
          <a:xfrm>
            <a:off x="1447920" y="6172200"/>
            <a:ext cx="457200" cy="457200"/>
          </a:xfrm>
          <a:prstGeom prst="flowChartConnector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lowchart: Connector 13"/>
          <p:cNvSpPr/>
          <p:nvPr/>
        </p:nvSpPr>
        <p:spPr>
          <a:xfrm>
            <a:off x="6705720" y="6172200"/>
            <a:ext cx="457200" cy="457200"/>
          </a:xfrm>
          <a:prstGeom prst="flowChartConnector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Rectangle 11" descr=""/>
          <p:cNvPicPr/>
          <p:nvPr/>
        </p:nvPicPr>
        <p:blipFill>
          <a:blip r:embed="rId1"/>
          <a:stretch/>
        </p:blipFill>
        <p:spPr>
          <a:xfrm>
            <a:off x="1901880" y="285840"/>
            <a:ext cx="4711680" cy="1098360"/>
          </a:xfrm>
          <a:prstGeom prst="rect">
            <a:avLst/>
          </a:prstGeom>
          <a:ln w="0">
            <a:noFill/>
          </a:ln>
        </p:spPr>
      </p:pic>
      <p:pic>
        <p:nvPicPr>
          <p:cNvPr id="91" name="Rectangle 13" descr=""/>
          <p:cNvPicPr/>
          <p:nvPr/>
        </p:nvPicPr>
        <p:blipFill>
          <a:blip r:embed="rId2"/>
          <a:stretch/>
        </p:blipFill>
        <p:spPr>
          <a:xfrm>
            <a:off x="865080" y="1427040"/>
            <a:ext cx="67788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3T23:33:22Z</dcterms:created>
  <dc:creator>ray</dc:creator>
  <dc:description/>
  <dc:language>en-US</dc:language>
  <cp:lastModifiedBy> </cp:lastModifiedBy>
  <cp:lastPrinted>1999-03-15T17:47:52Z</cp:lastPrinted>
  <dcterms:modified xsi:type="dcterms:W3CDTF">2010-12-06T19:04:55Z</dcterms:modified>
  <cp:revision>7</cp:revision>
  <dc:subject/>
  <dc:title>How to Create a Chart</dc:title>
</cp:coreProperties>
</file>